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532B-21A4-4AC2-A023-989648BB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576C-D235-42DD-A135-7ADF958D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BAA46-F9FE-46E3-800C-515BD489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F41CF-417C-42AE-B60E-82DE5AAF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54D33-67A3-4DAD-B509-C8221260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7F966-24D6-4088-80DE-57892C80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53DD1-6023-4C01-B286-7DA041F8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7EC92-DDCF-4C15-A3AD-80A54767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0CC95-94DB-443D-8229-4DE2B180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CE47E-D61E-4B24-BF26-451C27A0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BE482-4887-49C2-8519-220F3971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32137-08F5-4172-A2D1-15B651B0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4377-E2A7-4507-8E50-B0B87006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B7977-8142-4910-A0CD-3D7DE35F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694D6-4515-42ED-A9FD-7163F8C9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1C6EB-6175-40D6-B6FB-4A84705B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B4D39-9277-488C-8434-A4DABC26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FEE73-3073-45E0-9A5D-91363350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040DE-0D44-4B77-8C38-23E41F59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0D31F-2FD1-4FB8-91E0-7868F011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BA43B-09F0-47DA-B2AD-5A1DC71E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1ACAA-6139-4244-AEEB-15F82FBC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435AC-9B3D-493E-B14D-B82FDF32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0A12-E7CB-4828-85E8-9AA54440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998EC-EE7B-412E-B72E-B1DD0BD3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FB683-5DB5-4E00-9B3E-07C702B4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8B430-C10E-49E5-A32A-9D73EA4F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646A2-C589-4668-ADE4-9D37DD86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82E4A-17D5-4451-BD41-64052FBE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CBA5F-F874-492F-9DF3-D32A0AEE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78B7B-0B4D-40F7-974B-8F30E2F4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96EEF-7E82-4EB2-8F7E-475B3609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9F4E1-C8CC-4DB4-9A0B-8EC2F976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933AC-D31E-423D-98B9-944A0A12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CAE3-3902-46C0-BEEC-1A316316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55B00-1A1E-4746-A3F5-CE34F377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0BC96-6A85-4DA7-9BA7-41F0C498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EE1AD-4750-488D-98B8-B65E7C30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439CD-4D15-4B31-B939-908502B2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C550B-C9AB-4FA6-BB38-7C23330C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EA2DB-3452-4FF6-9FAB-AFFFD3D6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FB94D-4399-4809-B22C-A795CC91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97513-F266-4CCB-B95E-B547E4EF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5015B-9809-4389-BF25-8E464377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A7A19-A7E9-4CDF-9149-1C307968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B688-E495-41C2-BEFB-87B97DCC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E65A3-5385-40F1-B6E8-20F7C4A1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53D42-E419-4491-9BD6-EB0228FC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DAA4E-5C1A-4492-966E-9F212278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367B3-CC9B-41B7-BF6F-07ACD99A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05A37-AC93-41DD-8ECF-A968FE51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DC83-E9ED-497B-ADB3-90489DD8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A922-62E0-4AF0-AC31-F487216A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DA23-DD9E-4472-AB74-73AECC17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BCCE-63AF-4C92-830C-42762BAA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D3FE-4999-4977-A2FB-1D0B6262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2C01-89CA-49B2-8C8C-47E73B4F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913C-9ECD-4F38-96E3-806E73B6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9152-BC18-4000-BE79-67793F1B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D287-9D97-464F-8841-2D9D5B84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7EA1-BD51-456B-9BB5-13F12473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DC64-3AE6-424A-B5B9-E5B78BD8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E7F0B-E463-4B97-B62A-A5421539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4668C-CE17-4516-8530-5B12197B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06527-FF8D-40D3-B4E3-295118F8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644D8-EB56-4103-AC0F-2BCEC907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F8AA6-B5BA-4576-B251-0B3A4930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3951-2511-4C59-8F32-36B8D5A9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65E04-A35E-498E-94C9-9C1146AE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72058-FD81-4EAF-AD67-82B6E54F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D2E3C-15A4-4C9B-B3DD-75B9BF69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F942F-39AC-480C-953A-0A20BF19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4B548-F0C5-476D-9D71-2B3AC6D2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77EF9-C992-4105-BA59-5D3AE268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3CD54-9321-41AA-B59B-FB4808FB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5F333-D45C-43CB-B238-E308C5DD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1E3D9-8135-45FD-B0CF-81F008F0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2FD9C-672D-4362-80DB-4E378EA0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3D02-DAAE-417C-B0A0-E9CC0128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6EC33-4D23-4FCD-AABB-13E6F6A7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D15B7-9D50-4DFC-AA0F-DE096EFB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A6BC7-84DE-4BFE-80DE-17151E33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AC59B-C8C1-4D34-9EE6-36F9434E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1F48B-E948-4ED5-B082-14F18813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FB0A1-1E29-496D-B50F-CF212B9A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9A017-3E82-49F2-9C57-EC79FADC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6133A-FF65-4F67-AF69-D1CFB622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E3E4B-2F0D-4FA4-A963-534F17FD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2AA61-33F4-43C3-99F7-027EC3A7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4ECF-B53F-4E6D-8122-5CEBD7E5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2853C-318A-4187-8408-ECBEF9D5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EF496-EA62-4776-80DE-6DAFD997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92DB6-00A7-490C-8AE0-9908FDE9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AD9F4-65B8-4ED2-85A0-11528396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82AD4-AA06-4BBA-AF2C-00D88921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F4650-9E0C-4B87-BE64-78E7CEBE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0B817-04F5-4271-9778-1D98BE34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E8E85-748A-47C7-9C23-588B7919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91813-FE45-473F-A251-8FD6C63C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5310C-3887-4FE6-9A0E-D28B5B47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5578-FB85-4B0B-ACB9-5A304412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0CFC9-8187-46C8-A1BC-A9A23C6F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0C976-82B5-46E3-93D0-28C81363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7FE8D-3D60-4D5C-BB3E-96588C61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6648E-A456-46F8-B5AC-5416680E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20DDE-BA16-4BC6-89DC-215FA99A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C6FFF-A260-4202-8EDB-1D674881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FB498-4C3C-49DF-AD49-3610A908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E3098-A4BE-4EB0-9743-D068F786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BD998-C3EA-4BDE-B064-581F36F1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A4C70-8C84-4D54-8026-1AE08262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873-E236-45CE-AB7B-89F6F8AB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2DB03-3622-48B5-889A-2F2EF373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5930A-57AA-4293-AE25-08DBD962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89FC0-8F31-45EB-834C-F5AAA70A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30A8B-7C5D-43FD-ABF2-26E34D01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DCC33-1AF1-49C2-B986-C6372FC6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11966-D0E6-46C8-A751-8B44EEEC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2C70D-FF30-4011-BFDA-55DE76A8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0FD67-8093-477F-9A46-F520D187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F43AF-4781-4A54-9CFD-4E49E3E7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0B2B8-AA82-43B3-9565-B4A6E308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712B-2B3F-4874-AF94-DE39BDB1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78BB3-93D1-4620-A318-EC9A4932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46AC6-AC30-4A76-BD07-93F7995F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FB4CC-4CF8-4B41-A0AB-FF098BE8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758ED-754D-4884-A607-98D75C01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3DB6C-7C3E-48D3-A8CD-861BDE82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C0EC5-504E-465A-B063-DF58FD38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7E561-EB0E-4112-8CEF-B4980992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C2122-1DF4-49A8-81D8-18446D38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45AA1-A016-40ED-8A76-27FE9049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16CAA-D4B6-444F-B83F-FFB28196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C77-1C1D-476B-98A2-40C991D4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217D1-CFC8-443D-8BB1-5900C04C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0377D-D8F8-4E6A-B0F0-6B3843B0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FBAB4-C79C-4E1D-ADC1-E7CB2433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39F2C-62E2-4E0E-AB65-53D610AD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FA845-1ACE-4965-B649-02A39B3E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E7DD8-0226-4AC0-9FA8-A56EF74C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452D0-DB38-40C5-8C19-27E35AE4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BD050-BC8B-44DB-A762-0266CA45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0D5E4-9B70-4F36-8474-16D1F96E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B3643-D3D9-4CFB-A014-A03FB983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4CB2-D071-4794-A77C-4F5F75F5D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D94A-E546-4A1E-A5CA-FAB83B9C2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3CAF-FF49-44C5-ADFA-BFBF23DB6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BCCB-A7AF-4880-9B4D-5430722D9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5D93-C2AF-4BBD-B27B-83A044F4F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7883-A33F-4224-852A-4D77DBCEC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4EA2-4201-4549-ACBE-5F8141634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D6D1-F08E-4943-85B7-C81BFFD5E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06A9-D61F-41BB-95CD-A55C613D3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F9C5-C799-4F6C-8F64-2CFC4F9EF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04D8-B863-4C3F-82B6-6CB342E1B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7F5E-60CE-4071-87E4-25F8E3B43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.xml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"/><Relationship Id="rId6" Type="http://schemas.openxmlformats.org/officeDocument/2006/relationships/slide" Target="slide9.xml"/><Relationship Id="rId7" Type="http://schemas.openxmlformats.org/officeDocument/2006/relationships/slide" Target=""/><Relationship Id="rId8" Type="http://schemas.openxmlformats.org/officeDocument/2006/relationships/slide" Target="slide11.xml"/><Relationship Id="rId9" Type="http://schemas.openxmlformats.org/officeDocument/2006/relationships/slide" Target=""/><Relationship Id="rId10" Type="http://schemas.openxmlformats.org/officeDocument/2006/relationships/slide" Target="slide13.xml"/><Relationship Id="rId11" Type="http://schemas.openxmlformats.org/officeDocument/2006/relationships/slide" Target=""/><Relationship Id="rId12" Type="http://schemas.openxmlformats.org/officeDocument/2006/relationships/slide" Target="slide15.xml"/><Relationship Id="rId13" Type="http://schemas.openxmlformats.org/officeDocument/2006/relationships/slide" Target=""/><Relationship Id="rId14" Type="http://schemas.openxmlformats.org/officeDocument/2006/relationships/slide" Target="slide17.xml"/><Relationship Id="rId15" Type="http://schemas.openxmlformats.org/officeDocument/2006/relationships/slide" Target=""/><Relationship Id="rId16" Type="http://schemas.openxmlformats.org/officeDocument/2006/relationships/slide" Target="slide19.xml"/><Relationship Id="rId17" Type="http://schemas.openxmlformats.org/officeDocument/2006/relationships/slide" Target=""/><Relationship Id="rId18" Type="http://schemas.openxmlformats.org/officeDocument/2006/relationships/slide" Target="slide21.xml"/><Relationship Id="rId19" Type="http://schemas.openxmlformats.org/officeDocument/2006/relationships/slide" Target=""/><Relationship Id="rId20" Type="http://schemas.openxmlformats.org/officeDocument/2006/relationships/slide" Target="slide23.xml"/><Relationship Id="rId21" Type="http://schemas.openxmlformats.org/officeDocument/2006/relationships/slide" Target=""/><Relationship Id="rId22" Type="http://schemas.openxmlformats.org/officeDocument/2006/relationships/slide" Target="slide25.xml"/><Relationship Id="rId23" Type="http://schemas.openxmlformats.org/officeDocument/2006/relationships/slide" Target=""/><Relationship Id="rId24" Type="http://schemas.openxmlformats.org/officeDocument/2006/relationships/slide" Target="slide27.xml"/><Relationship Id="rId25" Type="http://schemas.openxmlformats.org/officeDocument/2006/relationships/slide" Target=""/><Relationship Id="rId26" Type="http://schemas.openxmlformats.org/officeDocument/2006/relationships/slide" Target="slide29.xml"/><Relationship Id="rId27" Type="http://schemas.openxmlformats.org/officeDocument/2006/relationships/slide" Target=""/><Relationship Id="rId28" Type="http://schemas.openxmlformats.org/officeDocument/2006/relationships/slide" Target="slide31.xml"/><Relationship Id="rId29" Type="http://schemas.openxmlformats.org/officeDocument/2006/relationships/slide" Target=""/><Relationship Id="rId30" Type="http://schemas.openxmlformats.org/officeDocument/2006/relationships/slide" Target="slide33.xml"/><Relationship Id="rId31" Type="http://schemas.openxmlformats.org/officeDocument/2006/relationships/slide" Target=""/><Relationship Id="rId32" Type="http://schemas.openxmlformats.org/officeDocument/2006/relationships/slide" Target="slide35.xml"/><Relationship Id="rId33" Type="http://schemas.openxmlformats.org/officeDocument/2006/relationships/slide" Target=""/><Relationship Id="rId34" Type="http://schemas.openxmlformats.org/officeDocument/2006/relationships/slide" Target="slide37.xml"/><Relationship Id="rId35" Type="http://schemas.openxmlformats.org/officeDocument/2006/relationships/slide" Target=""/><Relationship Id="rId36" Type="http://schemas.openxmlformats.org/officeDocument/2006/relationships/slide" Target="slide39.xml"/><Relationship Id="rId37" Type="http://schemas.openxmlformats.org/officeDocument/2006/relationships/slide" Target=""/><Relationship Id="rId38" Type="http://schemas.openxmlformats.org/officeDocument/2006/relationships/slide" Target="slide41.xml"/><Relationship Id="rId39" Type="http://schemas.openxmlformats.org/officeDocument/2006/relationships/slide" Target=""/><Relationship Id="rId40" Type="http://schemas.openxmlformats.org/officeDocument/2006/relationships/slide" Target="slide43.xml"/><Relationship Id="rId41" Type="http://schemas.openxmlformats.org/officeDocument/2006/relationships/slide" Target=""/><Relationship Id="rId42" Type="http://schemas.openxmlformats.org/officeDocument/2006/relationships/slide" Target="slide45.xml"/><Relationship Id="rId43" Type="http://schemas.openxmlformats.org/officeDocument/2006/relationships/slide" Target=""/><Relationship Id="rId44" Type="http://schemas.openxmlformats.org/officeDocument/2006/relationships/slide" Target="slide47.xml"/><Relationship Id="rId45" Type="http://schemas.openxmlformats.org/officeDocument/2006/relationships/slide" Target=""/><Relationship Id="rId46" Type="http://schemas.openxmlformats.org/officeDocument/2006/relationships/slide" Target="slide49.xml"/><Relationship Id="rId47" Type="http://schemas.openxmlformats.org/officeDocument/2006/relationships/slide" Target=""/><Relationship Id="rId48" Type="http://schemas.openxmlformats.org/officeDocument/2006/relationships/slide" Target="slide51.xml"/><Relationship Id="rId49" Type="http://schemas.openxmlformats.org/officeDocument/2006/relationships/slide" Target=""/><Relationship Id="rId50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6"/>
          <p:cNvGrpSpPr/>
          <p:nvPr/>
        </p:nvGrpSpPr>
        <p:grpSpPr>
          <a:xfrm>
            <a:off x="685800" y="4724280"/>
            <a:ext cx="5714640" cy="1601640"/>
            <a:chOff x="685800" y="4724280"/>
            <a:chExt cx="5714640" cy="1601640"/>
          </a:xfrm>
        </p:grpSpPr>
        <p:sp>
          <p:nvSpPr>
            <p:cNvPr id="493" name="WordArt 4"/>
            <p:cNvSpPr txBox="1"/>
            <p:nvPr/>
          </p:nvSpPr>
          <p:spPr>
            <a:xfrm>
              <a:off x="685800" y="4724280"/>
              <a:ext cx="571464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80"/>
                    </a:solidFill>
                    <a:miter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Civics</a:t>
              </a:r>
              <a:endParaRPr b="0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94" name="Text Box 5"/>
            <p:cNvSpPr/>
            <p:nvPr/>
          </p:nvSpPr>
          <p:spPr>
            <a:xfrm>
              <a:off x="1357920" y="5805720"/>
              <a:ext cx="429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c0c0"/>
                  </a:solidFill>
                  <a:latin typeface="Arial"/>
                </a:rPr>
                <a:t>By Folwell Dunbar, Co-n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c0c0"/>
                  </a:solidFill>
                  <a:latin typeface="Arial"/>
                </a:rPr>
                <a:t>Blank template by: Richard W. Lipham Waltrip H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AutoShape 7"/>
          <p:cNvSpPr/>
          <p:nvPr/>
        </p:nvSpPr>
        <p:spPr>
          <a:xfrm>
            <a:off x="3654360" y="2513160"/>
            <a:ext cx="1832040" cy="18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932" y="9600"/>
                </a:moveTo>
                <a:lnTo>
                  <a:pt x="22498" y="1350"/>
                </a:lnTo>
              </a:path>
              <a:path w="21600" h="21600">
                <a:moveTo>
                  <a:pt x="22498" y="0"/>
                </a:moveTo>
                <a:lnTo>
                  <a:pt x="22498" y="21600"/>
                </a:lnTo>
              </a:path>
            </a:pathLst>
          </a:custGeom>
          <a:solidFill>
            <a:srgbClr val="3366ff"/>
          </a:solidFill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o play the game, click 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8">
            <a:hlinkClick r:id="" action="ppaction://hlinkshowjump?jump=nextslide"/>
          </p:cNvPr>
          <p:cNvSpPr/>
          <p:nvPr/>
        </p:nvSpPr>
        <p:spPr>
          <a:xfrm>
            <a:off x="3657600" y="2514600"/>
            <a:ext cx="1905120" cy="1828800"/>
          </a:xfrm>
          <a:custGeom>
            <a:avLst/>
            <a:gdLst>
              <a:gd name="textAreaLeft" fmla="*/ 118440 w 1905120"/>
              <a:gd name="textAreaRight" fmla="*/ 1786680 w 19051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2501" h="21600">
                <a:moveTo>
                  <a:pt x="0" y="0"/>
                </a:moveTo>
                <a:lnTo>
                  <a:pt x="22501" y="0"/>
                </a:lnTo>
                <a:lnTo>
                  <a:pt x="22501" y="21600"/>
                </a:lnTo>
                <a:lnTo>
                  <a:pt x="0" y="21600"/>
                </a:lnTo>
                <a:close/>
              </a:path>
              <a:path fill="lightenLess" w="22501" h="21600">
                <a:moveTo>
                  <a:pt x="0" y="0"/>
                </a:moveTo>
                <a:lnTo>
                  <a:pt x="22501" y="0"/>
                </a:lnTo>
                <a:lnTo>
                  <a:pt x="21101" y="1400"/>
                </a:lnTo>
                <a:lnTo>
                  <a:pt x="1400" y="1400"/>
                </a:lnTo>
                <a:close/>
              </a:path>
              <a:path fill="darken" w="22501" h="21600">
                <a:moveTo>
                  <a:pt x="22501" y="0"/>
                </a:moveTo>
                <a:lnTo>
                  <a:pt x="22501" y="21600"/>
                </a:lnTo>
                <a:lnTo>
                  <a:pt x="21101" y="20200"/>
                </a:lnTo>
                <a:lnTo>
                  <a:pt x="21101" y="1400"/>
                </a:lnTo>
                <a:close/>
              </a:path>
              <a:path fill="darkenLess" w="22501" h="21600">
                <a:moveTo>
                  <a:pt x="2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01" y="20200"/>
                </a:lnTo>
                <a:close/>
              </a:path>
              <a:path fill="lighten" w="2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AutoShape 3076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080"/>
          <p:cNvSpPr/>
          <p:nvPr/>
        </p:nvSpPr>
        <p:spPr>
          <a:xfrm>
            <a:off x="1371600" y="1676520"/>
            <a:ext cx="6416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“No taxation without representation”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533520" y="838080"/>
            <a:ext cx="8226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document was created by American colonists. It created a weak government that could not collect taxes or raise an arm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AutoShape 1028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032"/>
          <p:cNvSpPr/>
          <p:nvPr/>
        </p:nvSpPr>
        <p:spPr>
          <a:xfrm>
            <a:off x="1295280" y="1981080"/>
            <a:ext cx="641664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762120" y="220968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are the Articles of Confeder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1523880" y="1600200"/>
            <a:ext cx="6172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form of government was used by the ancient Gr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AutoShape 9220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1692000" y="2514600"/>
            <a:ext cx="595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a democrac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1371600" y="1143000"/>
            <a:ext cx="6781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e period when the colonial settlers fought to end British rule in Amer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172800" y="2590920"/>
            <a:ext cx="918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the American Revolu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AutoShape 2053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1828800" y="1828800"/>
            <a:ext cx="5638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document stated that the 13 colonies were free from British r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1752480" y="1828800"/>
            <a:ext cx="6019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the declaration of Independen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AutoShape 3077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1752480" y="1295280"/>
            <a:ext cx="6477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A system of government in which a group of people in a territory are ruled by a sovereign power in a different territ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" action="ppaction://hlinksldjump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6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8" action="ppaction://hlinksldjump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10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1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14" action="ppaction://hlinksldjump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16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18" action="ppaction://hlinksldjump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0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4" action="ppaction://hlinksldjump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6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8" action="ppaction://hlinksldjump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30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3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34" action="ppaction://hlinksldjump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36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15">
            <a:hlinkClick r:id="rId3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38" action="ppaction://hlinksldjump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16">
            <a:hlinkClick r:id="rId3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0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17">
            <a:hlinkClick r:id="rId4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18">
            <a:hlinkClick r:id="rId4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4" action="ppaction://hlinksldjump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9">
            <a:hlinkClick r:id="rId45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6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20">
            <a:hlinkClick r:id="rId47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8" action="ppaction://hlinksldjump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40">
            <a:hlinkClick r:id="rId49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21"/>
          <p:cNvSpPr/>
          <p:nvPr/>
        </p:nvSpPr>
        <p:spPr>
          <a:xfrm>
            <a:off x="151200" y="3049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0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122"/>
          <p:cNvSpPr/>
          <p:nvPr/>
        </p:nvSpPr>
        <p:spPr>
          <a:xfrm>
            <a:off x="1905120" y="30492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0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123"/>
          <p:cNvSpPr/>
          <p:nvPr/>
        </p:nvSpPr>
        <p:spPr>
          <a:xfrm>
            <a:off x="3657600" y="152280"/>
            <a:ext cx="18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orld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124"/>
          <p:cNvSpPr/>
          <p:nvPr/>
        </p:nvSpPr>
        <p:spPr>
          <a:xfrm>
            <a:off x="5486400" y="152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orld Govn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125"/>
          <p:cNvSpPr/>
          <p:nvPr/>
        </p:nvSpPr>
        <p:spPr>
          <a:xfrm>
            <a:off x="7391520" y="380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TS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2286000" y="14479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Colonialis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1029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030"/>
          <p:cNvSpPr/>
          <p:nvPr/>
        </p:nvSpPr>
        <p:spPr>
          <a:xfrm>
            <a:off x="609480" y="2057400"/>
            <a:ext cx="822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e belief that power belongs to the people and those that they choose to represent th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1371600" y="2057400"/>
            <a:ext cx="64166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Popular Sovereignt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457200" y="1366920"/>
            <a:ext cx="822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form of government gives citizens the power to elect representatives including a presid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AutoShape 1028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032"/>
          <p:cNvSpPr/>
          <p:nvPr/>
        </p:nvSpPr>
        <p:spPr>
          <a:xfrm>
            <a:off x="1371600" y="1981080"/>
            <a:ext cx="641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a presidential democrac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3"/>
          <p:cNvSpPr/>
          <p:nvPr/>
        </p:nvSpPr>
        <p:spPr>
          <a:xfrm>
            <a:off x="1523880" y="1295280"/>
            <a:ext cx="6172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South Asian country has both a dictator as well as a single part govern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2057400" y="152388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North Kore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AutoShape 2053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1219320" y="1447920"/>
            <a:ext cx="6324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North American country has a prime minister as its head of sta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1371600" y="2438280"/>
            <a:ext cx="6416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Canad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AutoShape 2054">
            <a:hlinkClick r:id="" action="ppaction://hlinkshowjump?jump=nextslide"/>
          </p:cNvPr>
          <p:cNvSpPr/>
          <p:nvPr/>
        </p:nvSpPr>
        <p:spPr>
          <a:xfrm>
            <a:off x="75438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2055"/>
          <p:cNvSpPr/>
          <p:nvPr/>
        </p:nvSpPr>
        <p:spPr>
          <a:xfrm>
            <a:off x="457200" y="1219320"/>
            <a:ext cx="822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e one person of power in this form of government passes power from generation to gener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457200" y="2209680"/>
            <a:ext cx="822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  <a:ea typeface="Times New Roman"/>
              </a:rPr>
              <a:t>Britain had this form of government when it ruled over the 13 colon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AutoShape 3076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3080"/>
          <p:cNvSpPr/>
          <p:nvPr/>
        </p:nvSpPr>
        <p:spPr>
          <a:xfrm>
            <a:off x="1295280" y="2286000"/>
            <a:ext cx="641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a Monarch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533520" y="1676520"/>
            <a:ext cx="822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Hispanic Caribbean island has a single party state and is considered to have a dictator as we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8196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8199"/>
          <p:cNvSpPr/>
          <p:nvPr/>
        </p:nvSpPr>
        <p:spPr>
          <a:xfrm>
            <a:off x="8476560" y="228600"/>
            <a:ext cx="4546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8201"/>
          <p:cNvSpPr/>
          <p:nvPr/>
        </p:nvSpPr>
        <p:spPr>
          <a:xfrm>
            <a:off x="1219320" y="1828800"/>
            <a:ext cx="641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Cub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533520" y="304920"/>
            <a:ext cx="79246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country is considered one of the most powerful countries in the world and just recently elected its first African American Presiden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AutoShape 4100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2133720" y="2362320"/>
            <a:ext cx="521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the United States of Americ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AutoShape 2053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2054"/>
          <p:cNvSpPr/>
          <p:nvPr/>
        </p:nvSpPr>
        <p:spPr>
          <a:xfrm>
            <a:off x="457200" y="1071720"/>
            <a:ext cx="8226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form of government gives the people the power to elect representatives who then select a Prime Minister to represent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0"/>
          <p:cNvSpPr/>
          <p:nvPr/>
        </p:nvSpPr>
        <p:spPr>
          <a:xfrm>
            <a:off x="1143000" y="1752480"/>
            <a:ext cx="64166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a parliamentary democrac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1029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1030"/>
          <p:cNvSpPr/>
          <p:nvPr/>
        </p:nvSpPr>
        <p:spPr>
          <a:xfrm>
            <a:off x="457200" y="1071720"/>
            <a:ext cx="822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In this form of government one person holds all of the power. Most often this person take power by for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AutoShape 1028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034"/>
          <p:cNvSpPr/>
          <p:nvPr/>
        </p:nvSpPr>
        <p:spPr>
          <a:xfrm>
            <a:off x="1447920" y="1752480"/>
            <a:ext cx="6416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a dictatorship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457200" y="1071720"/>
            <a:ext cx="822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In this form of government the constitution of the party only allows for one political par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9"/>
          <p:cNvSpPr/>
          <p:nvPr/>
        </p:nvSpPr>
        <p:spPr>
          <a:xfrm>
            <a:off x="1295280" y="2438280"/>
            <a:ext cx="641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What is a Monarch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11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0"/>
          <p:cNvSpPr/>
          <p:nvPr/>
        </p:nvSpPr>
        <p:spPr>
          <a:xfrm>
            <a:off x="1066680" y="1676520"/>
            <a:ext cx="6416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a Single-Party stat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6"/>
          <p:cNvSpPr/>
          <p:nvPr/>
        </p:nvSpPr>
        <p:spPr>
          <a:xfrm>
            <a:off x="457200" y="1071720"/>
            <a:ext cx="822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middle eastern country is one of the richest in the world do to its petroleum/oil and is ruled by a king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AutoShape 1028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1034"/>
          <p:cNvSpPr/>
          <p:nvPr/>
        </p:nvSpPr>
        <p:spPr>
          <a:xfrm>
            <a:off x="1295280" y="2133720"/>
            <a:ext cx="6416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Saudi Arab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457200" y="1071720"/>
            <a:ext cx="822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youth based organization is based in Jamaica Pla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8"/>
          <p:cNvSpPr/>
          <p:nvPr/>
        </p:nvSpPr>
        <p:spPr>
          <a:xfrm>
            <a:off x="1066680" y="2286000"/>
            <a:ext cx="641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the Hyde Square Task For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457200" y="1071720"/>
            <a:ext cx="822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e HSTF went to these two city officials with their plan for a new history course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0"/>
          <p:cNvSpPr/>
          <p:nvPr/>
        </p:nvSpPr>
        <p:spPr>
          <a:xfrm>
            <a:off x="838080" y="1371600"/>
            <a:ext cx="64166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the Mayor and Superintendent of BP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AutoShape 1029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030"/>
          <p:cNvSpPr/>
          <p:nvPr/>
        </p:nvSpPr>
        <p:spPr>
          <a:xfrm>
            <a:off x="533520" y="1676520"/>
            <a:ext cx="822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is the official title for the course that the HSTF creat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8"/>
          <p:cNvSpPr/>
          <p:nvPr/>
        </p:nvSpPr>
        <p:spPr>
          <a:xfrm>
            <a:off x="1295280" y="2133720"/>
            <a:ext cx="6416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Civics for Boston Youth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AutoShape 1029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030"/>
          <p:cNvSpPr/>
          <p:nvPr/>
        </p:nvSpPr>
        <p:spPr>
          <a:xfrm>
            <a:off x="533520" y="2057400"/>
            <a:ext cx="822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ese were the first two Boston Public high schools to offer the course last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6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533520" y="1452600"/>
            <a:ext cx="822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ese first ten amendments that established basic rights such as freedom of speech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1"/>
          <p:cNvSpPr/>
          <p:nvPr/>
        </p:nvSpPr>
        <p:spPr>
          <a:xfrm>
            <a:off x="1219320" y="1676520"/>
            <a:ext cx="6416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English &amp; Madison Park High School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6"/>
          <p:cNvSpPr/>
          <p:nvPr/>
        </p:nvSpPr>
        <p:spPr>
          <a:xfrm>
            <a:off x="457200" y="1071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ese were the problems identified by the HSTF as reasons for Civics course in high scho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8"/>
          <p:cNvSpPr/>
          <p:nvPr/>
        </p:nvSpPr>
        <p:spPr>
          <a:xfrm>
            <a:off x="914400" y="25146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Answers may va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1447920" y="2209680"/>
            <a:ext cx="641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the Bill of Righ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utoShape 5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533520" y="1452600"/>
            <a:ext cx="822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document created our current structure of government and the basic rights of all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1295280" y="2286000"/>
            <a:ext cx="6416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What is the United States Constitu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AutoShape 6">
            <a:hlinkClick r:id="" action="ppaction://hlinkshowjump?jump=nextslide"/>
          </p:cNvPr>
          <p:cNvSpPr/>
          <p:nvPr/>
        </p:nvSpPr>
        <p:spPr>
          <a:xfrm>
            <a:off x="3886200" y="5943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533520" y="1452600"/>
            <a:ext cx="822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is phrase was used by frustrated colonists who were forced to pay taxes to the British monarch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Folwell Dunbar</dc:creator>
  <dc:description/>
  <dc:language>en-US</dc:language>
  <cp:lastModifiedBy>E. Chris Summerhill</cp:lastModifiedBy>
  <dcterms:modified xsi:type="dcterms:W3CDTF">2009-09-24T13:48:36Z</dcterms:modified>
  <cp:revision>157</cp:revision>
  <dc:subject/>
  <dc:title>Civil War Jeopardy</dc:title>
</cp:coreProperties>
</file>